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024-EA9D-4C9A-B137-CF9AC4AF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EE8-6921-414A-B5D1-2DCF0E6D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74E-5EFB-4307-9D11-B35F6BCB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0F8-271B-4F07-BF81-48075A17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95BE-9E35-4543-9E0C-6637B7DD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5B8B-6474-4588-AC82-C488A2C5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8D19-9568-45D9-A781-4BBB2B2A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FAAC-C626-40F9-9969-B1E662DA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7AA2-7EB7-40B9-A1C8-FFEB217C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547A-6166-4354-9495-A1A12D2B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14A3-83FB-4315-9E74-19A698A0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80CF-6A0B-409D-8380-814E9475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9757-FA6F-4926-A390-DDA84CED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D3FD-0DE5-4D96-917D-62DEA592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F8AF-AB36-439A-BA60-328F1B3E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4683-69AC-470D-8F07-631D820F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F8FC-0667-4E85-8495-74E33D6E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D55-54F9-4FA7-8908-91380B93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5E3-AA87-4E29-964B-03260D19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D58-F6A5-420B-9728-41AAA93D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A11-0D89-48E6-BF77-BD66B861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F7D-5E9A-44DF-BB9C-098AC450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978-756E-4407-B1FF-A17902F6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145-667E-46AB-B824-79C341E9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982E-FF08-4843-B6AF-EBE53841885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9967-4420-40D0-905D-2B6C44ADD5A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ahoma"/>
              </a:rPr>
              <a:t>E.O.C Exam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ustainable Use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Using a resource in a way to make it last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Education of and care for coral reef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Pesticides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Chemicals farmers use to kill unwanted organisms (weeds &amp; insects)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Runoff (DDT &amp; magnification)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dditional Vocabulary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29"/>
                </a:solidFill>
                <a:latin typeface="Arial"/>
              </a:rPr>
              <a:t>Niche</a:t>
            </a: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29"/>
                </a:solidFill>
                <a:latin typeface="Arial"/>
              </a:rPr>
              <a:t>Predator/prey relationships</a:t>
            </a: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29"/>
                </a:solidFill>
                <a:latin typeface="Arial"/>
              </a:rPr>
              <a:t>Community</a:t>
            </a: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29"/>
                </a:solidFill>
                <a:latin typeface="Arial"/>
              </a:rPr>
              <a:t>Limiting factors (dependent vs. ind.)</a:t>
            </a: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92929"/>
                </a:solidFill>
                <a:latin typeface="Arial"/>
              </a:rPr>
              <a:t>Stewardship </a:t>
            </a: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Draw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Food Web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6200" y="426708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snake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3040" y="3124080"/>
            <a:ext cx="8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owl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30840" y="411480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frog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43920" y="5181480"/>
            <a:ext cx="27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grasshopper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4480" y="342900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grass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96560" y="419112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cow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Draw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nergy Pyramid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439128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Draw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Nitrogen Cycle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861840"/>
            <a:ext cx="914400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Draw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arbon Cycle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228600" y="100080"/>
            <a:ext cx="937260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Draw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Population Growth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-44280"/>
            <a:ext cx="792504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.O.C. Survival Gu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Title Page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Tips/Strategi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People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Drawing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20 Key Term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Biotic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Living factor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Animals, plants, competition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biotic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Nonliving factor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Storms, stress, space, etc.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Mutualism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two organisms help each other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Ants and acacia tre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Gobe fish and shrimp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ommensalism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one organism benefits while the other is neither helped nor harmed 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clown fish and sea anemone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cosystem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All of the living and nonliving things in an area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All interact with one another!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arrying Capacity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Number of individuals of one species an env. can support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Goal 5: Vocabul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Global Warming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Continuous heating of the planet from the build up of CO</a:t>
            </a:r>
            <a:r>
              <a:rPr b="1" lang="en-US" sz="40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in the atmosphere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2:30:08Z</dcterms:created>
  <dc:creator>Harnett Central High School</dc:creator>
  <dc:description/>
  <dc:language>en-US</dc:language>
  <cp:lastModifiedBy>Office 2004 Test Drive User</cp:lastModifiedBy>
  <dcterms:modified xsi:type="dcterms:W3CDTF">2009-01-14T13:20:20Z</dcterms:modified>
  <cp:revision>16</cp:revision>
  <dc:subject/>
  <dc:title>E.O.C Numbers</dc:title>
</cp:coreProperties>
</file>